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0AA-CB6C-4D78-8F92-2F996C61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B38-6AE4-47CD-A62A-E845D26F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D49-126E-4C2E-81D8-1324582F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51B-AD04-4A0C-9078-A7FB02F0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286D-C7AA-4184-A8F8-0F111A01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5DD8-4819-45EE-8488-8A378DC1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B06A-2347-4829-AF97-5633D00D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B631-AFF3-4785-B87E-1803436E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9A0A-467A-4F97-910C-BDF2F61F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2225-15CC-42B1-B720-3BA7BE42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7B1E-6627-40DA-BA62-B6CDA608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5AA-BF2B-40AF-A223-80A5E63B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F547-5CE4-4F1B-9203-6DD6EBBC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5E8A-2653-4A31-B4F9-22A5D27F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DC61-1E94-4780-8AA1-7C8D1337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963D-1792-45F5-8140-C762431B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92EA-4B95-421B-8085-66E11D54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EC8-3FC7-4C1B-857F-6749E581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858-1701-40BA-B289-FC85A43A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C07-7DA7-470D-85DC-F11EE308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B0C-1D4F-4A33-B0FE-CDA13C82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F94-38BF-409B-8D16-17BCF96C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446-95EF-4715-8083-699FDF3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9953-BC76-4971-AD68-2A04F471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308A-55BA-4B3C-98A9-9B85B40E95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324C-BCE4-4693-A0C1-A99692AB04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1200" y="166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38360" y="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3120" y="351936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Examp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5600" y="350532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Non-examp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71880" y="2514600"/>
            <a:ext cx="3024000" cy="181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3886200"/>
            <a:ext cx="3733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Games (FF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 Townshend / V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We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into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04920"/>
            <a:ext cx="16765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a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4956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ing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/ Restrictions/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304920"/>
            <a:ext cx="190476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ilosoph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d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g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c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609480"/>
            <a:ext cx="41911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ner “Firetruck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tate of mind induced by an activity and characterized by total immersion in the activity and a feeling of euph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1:50:39Z</dcterms:created>
  <dc:creator>000090hs</dc:creator>
  <dc:description/>
  <dc:language>en-US</dc:language>
  <cp:lastModifiedBy>000090hs</cp:lastModifiedBy>
  <dcterms:modified xsi:type="dcterms:W3CDTF">2008-09-05T13:17:29Z</dcterms:modified>
  <cp:revision>3</cp:revision>
  <dc:subject/>
  <dc:title>Slide 1</dc:title>
</cp:coreProperties>
</file>